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3.wmf" ContentType="image/x-wmf"/>
  <Override PartName="/ppt/media/image26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2.wmf" ContentType="image/x-wmf"/>
  <Override PartName="/ppt/media/image25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14B-CD6D-4901-BE7B-67977774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855-6B2C-4594-9B8A-60416DB7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8B4-5FD1-43BD-8EBB-35FC29C2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289-FDB1-4C35-A078-CEFCC1E5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896-A4CD-42DB-AFC3-7CCBAFDE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544-5F40-49ED-A4A6-BE58DEE8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A7A-D7F9-46F3-82BE-482B8D82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12F-2094-476B-B232-42C13E60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DFA-EC8D-44AD-8077-52BEB022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32F-5337-46C3-A5BD-C36B544A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677-3516-4B10-971C-DA4DDF8F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767-8FF5-476F-BC15-01ACCAE7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7A10-19D5-4CD1-90A8-06E259FA7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Morgan Goes to B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646280" cy="163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629400" y="4419720"/>
            <a:ext cx="2311560" cy="2247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3520" y="4572000"/>
            <a:ext cx="1782720" cy="176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a right to something because of earn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438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eel sad and sorry for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1790640" cy="188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24480" y="2666880"/>
            <a:ext cx="1898640" cy="129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9480" y="2438280"/>
            <a:ext cx="1841760" cy="1717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68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68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something started or put it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671720" cy="418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o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up or up in the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3760560" cy="379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n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ork at something and fool around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39196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lutch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pir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errifi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t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old something tigh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292640" cy="4127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 flipH="1">
            <a:off x="4724280" y="1066680"/>
            <a:ext cx="2743200" cy="2210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ave enthusiasm, courage, and loy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i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very good;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1733400" cy="1924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477120" y="2209680"/>
            <a:ext cx="1984320" cy="825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38080" y="4495680"/>
            <a:ext cx="189576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1892520" cy="192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mpe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ibu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cre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ser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tu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o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n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ry very hard to win; to become part of a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1731960" cy="1819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867280" y="228600"/>
            <a:ext cx="274320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ive, help, or pitch-in along with others; to give your time or money to help a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2379600" cy="3575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705720" y="3276720"/>
            <a:ext cx="1504800" cy="1814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1873080" cy="150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 or something you do to have a goo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36920" y="2755800"/>
            <a:ext cx="2268720" cy="1346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225108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095880" y="2590920"/>
            <a:ext cx="2159280" cy="2182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657600" y="4495680"/>
            <a:ext cx="1790640" cy="1819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086600" y="4800600"/>
            <a:ext cx="1563840" cy="175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838080" y="4952880"/>
            <a:ext cx="18417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2:43:49Z</dcterms:created>
  <dc:creator> </dc:creator>
  <dc:description/>
  <dc:language>en-US</dc:language>
  <cp:lastModifiedBy> </cp:lastModifiedBy>
  <dcterms:modified xsi:type="dcterms:W3CDTF">2007-10-08T02:59:13Z</dcterms:modified>
  <cp:revision>2</cp:revision>
  <dc:subject/>
  <dc:title>Ronald Morgan Goes to Bat</dc:title>
</cp:coreProperties>
</file>